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20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5128-B430-46D2-9C19-090CB6EECC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E928-B26A-4129-B9F4-70AFC087B7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392-8B93-4EDD-A5BA-C37C8035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BF85-FF17-45E6-A36A-84FB6874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0A8-9044-4175-BF17-A2C3F2F8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990-6D7B-4C90-9253-FB5D72D8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C696-324A-4F3A-8494-FFAC5C7F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48AE-E5BC-4B82-A3CC-9BE55A58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6365-511D-4ACB-8219-D9BEB5BD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17C6-9AAB-4C67-8E29-FD3BE24F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C953-ABC3-44DB-86C1-0ADF6768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5233-7A64-455B-ACCC-75435171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4F8E-CDFA-49F4-BE8C-B636CECA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B06-8174-460D-AA73-7298F486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3665-6914-4CD3-8F4D-65718661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86EE-94E3-4516-8EEB-6B6C3B48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89F6-2C01-404D-9B9C-A5FA5C09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0CEF-098A-4BF1-AF28-656A8D41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F506-F639-4544-9596-70346D17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37D5B-408C-42E9-92DE-F27A7018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C3FF9-6F9E-4E54-9822-AF794258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4C1C8-2C13-47FF-8C87-8E51AF38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A6DCA-DD9E-4D7C-AD70-2DA1B9AC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7EEC3-66D5-4299-AD4E-BE08DC93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9488-1CB4-4833-9586-F5CDAF2F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A2F2F-F18D-4D5B-9953-5C62613F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5598D-2BC1-4082-8B11-3EA14C25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AE2E0-B057-4494-9815-EBA46079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6B385-2D54-4570-B301-E442EAAB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9C452-AFD2-474C-A78A-9498B4D9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C5DE0-5E67-44D0-BA59-F52BAA11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A1D00-3A4F-4DF7-937E-258C1213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51609-E662-4454-8F31-5A2866E3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C8E7D-0353-486A-9243-9BFFC1CD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B759C-C8C4-4867-9871-CA10F78A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A3A-CDBE-4054-B117-84DEDF1B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149DB-DF17-413D-ADAD-A9B4E6D9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1EE44-36F7-4E61-AF75-78BC30D9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8B0ED-5DA6-4FE3-BC01-15C028E0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2C7E7-AABE-46FA-8241-218F2E2B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C74FA-44ED-489D-B0F7-06B39126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B5D77-6C0C-49FD-8B3C-A6C329BC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6C076-637A-4E70-901B-B2C05B61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792D0-CB23-414C-8D42-62C7A8B6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22BAB-82AA-44F8-BC72-944FE18C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16EA8-5089-49DA-9488-DA035849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830-94D4-48C5-BE99-5B28FFAA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E3826-240B-40DF-A8AA-6B33DC6B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27BE3-B29E-4566-B400-532E586F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D4F1E-6144-493D-83B6-5C8F6B1F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D95AC-75FF-4FC2-A9E7-002C22E2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B320E-B882-47B5-A2EF-D3BEC78F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D146C-C159-4E6C-BA7E-9A1F695D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C81A4-E4EB-4839-A361-22B28717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BDAC2-8496-42F9-963B-F409B4E2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EC6F4-D37F-4504-AC7A-C7A30DAA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C9679-DD68-4B7F-9575-E1888600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AC9-22A4-4BA4-BF2E-EF09520B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A828A-323B-40E2-8E96-8838B923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694-B47B-41E4-9A4F-2BBEF066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194-0444-40B1-8895-9F17200A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CB4-88A4-4AAE-8874-2C665711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E55A-923B-4B13-A518-6FEB97E0194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2FCE-2929-4F99-8867-37A67AE67AD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C1D8-38F9-4F3F-9A64-4F19BE09020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02C7-C40A-49B2-AE42-C728B911AB8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AF16-54FE-4D7D-B3CD-A9A1EA98ECF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C:\Users\79995\Desktop\изонить\2547667f45b75ffbd017fdba52a124e9.jpg"/>
          <p:cNvPicPr/>
          <p:nvPr/>
        </p:nvPicPr>
        <p:blipFill>
          <a:blip r:embed="rId2"/>
          <a:stretch/>
        </p:blipFill>
        <p:spPr>
          <a:xfrm>
            <a:off x="250920" y="2852640"/>
            <a:ext cx="551484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ы работ «Аквариу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Users\79995\Desktop\изонить\61c582c91fb1a80d45f6a6bcc41ece5b.jpg.jpg"/>
          <p:cNvPicPr/>
          <p:nvPr/>
        </p:nvPicPr>
        <p:blipFill>
          <a:blip r:embed="rId1"/>
          <a:stretch/>
        </p:blipFill>
        <p:spPr>
          <a:xfrm>
            <a:off x="250920" y="1197000"/>
            <a:ext cx="88930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Аквариум»3-4ч\948b751e6e52f3c074666649826f7db3.png"/>
          <p:cNvPicPr/>
          <p:nvPr/>
        </p:nvPicPr>
        <p:blipFill>
          <a:blip r:embed="rId1"/>
          <a:stretch/>
        </p:blipFill>
        <p:spPr>
          <a:xfrm>
            <a:off x="1403280" y="1077840"/>
            <a:ext cx="691380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07T10:13:07Z</dcterms:modified>
  <cp:revision>32</cp:revision>
  <dc:subject/>
  <dc:title>ТВОРЧЕСКАЯ ДЕЯТЕЛЬНОСТЬ: ЗНАКОМСТВО С ТЕХНИКОЙ ИЗОНИТЬ</dc:title>
</cp:coreProperties>
</file>